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11.jpeg" ContentType="image/jpeg"/>
  <Override PartName="/ppt/media/image9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34.jpeg" ContentType="image/jpeg"/>
  <Override PartName="/ppt/media/image46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7.jpeg" ContentType="image/jpeg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CC80-D0E0-473E-BADC-DD7B18BA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C12C-5A09-477B-9064-3C280C7E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BBE-8978-435C-BEBA-F90470C4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1B0E-AE21-4609-9147-C32007BE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274B-19F6-4594-81DF-27DCEAD9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C34D-FFB6-417A-83D4-4A4E65A4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A8C-2FF8-48B5-8D58-7AC8CFC0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DF3C-556C-47B7-9543-11EF750C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E454-6BD8-4F64-B998-657A50D1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A3F5-1CE2-437E-B958-52B875B5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BC04-6EE7-40B6-A79A-6EEEC026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CE9E-2147-4030-A989-1F1DA896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B91A-D278-472C-9A01-633199867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h?id=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Water and Land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00120" y="196056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Jack Van C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3" descr="th?id=I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Tropical Rainforest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ropical rainforest have the most species than all the other bio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Dozens of plant and animals live in tre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ertain plants ,such as orchids, survive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ropical rainforests are found in all the continents except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0" y="4876920"/>
            <a:ext cx="2152800" cy="1982520"/>
            <a:chOff x="0" y="4876920"/>
            <a:chExt cx="2152800" cy="1982520"/>
          </a:xfrm>
        </p:grpSpPr>
        <p:pic>
          <p:nvPicPr>
            <p:cNvPr id="170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4876920"/>
              <a:ext cx="21528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4"/>
            <p:cNvSpPr/>
            <p:nvPr/>
          </p:nvSpPr>
          <p:spPr>
            <a:xfrm>
              <a:off x="611280" y="64911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fro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152800" y="4876920"/>
            <a:ext cx="2620800" cy="1990440"/>
            <a:chOff x="2152800" y="4876920"/>
            <a:chExt cx="2620800" cy="1990440"/>
          </a:xfrm>
        </p:grpSpPr>
        <p:pic>
          <p:nvPicPr>
            <p:cNvPr id="173" name="Picture 7" descr=""/>
            <p:cNvPicPr/>
            <p:nvPr/>
          </p:nvPicPr>
          <p:blipFill>
            <a:blip r:embed="rId3"/>
            <a:stretch/>
          </p:blipFill>
          <p:spPr>
            <a:xfrm>
              <a:off x="2152800" y="4876920"/>
              <a:ext cx="2620800" cy="19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Box 5"/>
            <p:cNvSpPr/>
            <p:nvPr/>
          </p:nvSpPr>
          <p:spPr>
            <a:xfrm>
              <a:off x="2441160" y="640080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jagu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773600" y="4876920"/>
            <a:ext cx="2236680" cy="2076480"/>
            <a:chOff x="4773600" y="4876920"/>
            <a:chExt cx="2236680" cy="2076480"/>
          </a:xfrm>
        </p:grpSpPr>
        <p:pic>
          <p:nvPicPr>
            <p:cNvPr id="176" name="Picture 5" descr=""/>
            <p:cNvPicPr/>
            <p:nvPr/>
          </p:nvPicPr>
          <p:blipFill>
            <a:blip r:embed="rId4"/>
            <a:stretch/>
          </p:blipFill>
          <p:spPr>
            <a:xfrm>
              <a:off x="4773600" y="4876920"/>
              <a:ext cx="2236680" cy="20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Box 6"/>
            <p:cNvSpPr/>
            <p:nvPr/>
          </p:nvSpPr>
          <p:spPr>
            <a:xfrm>
              <a:off x="5032440" y="658512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Coral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7010280" y="4876920"/>
            <a:ext cx="2133720" cy="2076480"/>
            <a:chOff x="7010280" y="4876920"/>
            <a:chExt cx="2133720" cy="2076480"/>
          </a:xfrm>
        </p:grpSpPr>
        <p:pic>
          <p:nvPicPr>
            <p:cNvPr id="179" name="Picture 3" descr=""/>
            <p:cNvPicPr/>
            <p:nvPr/>
          </p:nvPicPr>
          <p:blipFill>
            <a:blip r:embed="rId5"/>
            <a:stretch/>
          </p:blipFill>
          <p:spPr>
            <a:xfrm>
              <a:off x="7010280" y="4876920"/>
              <a:ext cx="2133720" cy="20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7"/>
            <p:cNvSpPr/>
            <p:nvPr/>
          </p:nvSpPr>
          <p:spPr>
            <a:xfrm>
              <a:off x="7318440" y="6585120"/>
              <a:ext cx="105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elepha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8" descr="th?id=I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Deciduous Forest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Snakes and salamanders live under ground in the win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 rabbits color changes in the win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 population will get big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ost deciduous forest is found in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0" y="4876920"/>
            <a:ext cx="2286000" cy="1981080"/>
            <a:chOff x="0" y="4876920"/>
            <a:chExt cx="2286000" cy="1981080"/>
          </a:xfrm>
        </p:grpSpPr>
        <p:pic>
          <p:nvPicPr>
            <p:cNvPr id="185" name="Picture 5" descr="th?id=I"/>
            <p:cNvPicPr/>
            <p:nvPr/>
          </p:nvPicPr>
          <p:blipFill>
            <a:blip r:embed="rId2"/>
            <a:stretch/>
          </p:blipFill>
          <p:spPr>
            <a:xfrm>
              <a:off x="0" y="4876920"/>
              <a:ext cx="22860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12"/>
            <p:cNvSpPr/>
            <p:nvPr/>
          </p:nvSpPr>
          <p:spPr>
            <a:xfrm>
              <a:off x="138600" y="636120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coy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286000" y="4876920"/>
            <a:ext cx="2286000" cy="1981080"/>
            <a:chOff x="2286000" y="4876920"/>
            <a:chExt cx="2286000" cy="1981080"/>
          </a:xfrm>
        </p:grpSpPr>
        <p:pic>
          <p:nvPicPr>
            <p:cNvPr id="188" name="Picture 9" descr="th?id=H"/>
            <p:cNvPicPr/>
            <p:nvPr/>
          </p:nvPicPr>
          <p:blipFill>
            <a:blip r:embed="rId3"/>
            <a:stretch/>
          </p:blipFill>
          <p:spPr>
            <a:xfrm>
              <a:off x="2286000" y="4876920"/>
              <a:ext cx="22860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13"/>
            <p:cNvSpPr/>
            <p:nvPr/>
          </p:nvSpPr>
          <p:spPr>
            <a:xfrm>
              <a:off x="2424960" y="636120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Black b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572000" y="4876920"/>
            <a:ext cx="2685960" cy="1981080"/>
            <a:chOff x="4572000" y="4876920"/>
            <a:chExt cx="2685960" cy="1981080"/>
          </a:xfrm>
        </p:grpSpPr>
        <p:pic>
          <p:nvPicPr>
            <p:cNvPr id="191" name="Picture 11" descr="th?id=I"/>
            <p:cNvPicPr/>
            <p:nvPr/>
          </p:nvPicPr>
          <p:blipFill>
            <a:blip r:embed="rId4"/>
            <a:stretch/>
          </p:blipFill>
          <p:spPr>
            <a:xfrm>
              <a:off x="4572000" y="4876920"/>
              <a:ext cx="268596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4"/>
            <p:cNvSpPr/>
            <p:nvPr/>
          </p:nvSpPr>
          <p:spPr>
            <a:xfrm>
              <a:off x="4787640" y="6361200"/>
              <a:ext cx="157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Whitetail d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238880" y="4876920"/>
            <a:ext cx="1905120" cy="1981080"/>
            <a:chOff x="7238880" y="4876920"/>
            <a:chExt cx="1905120" cy="1981080"/>
          </a:xfrm>
        </p:grpSpPr>
        <p:pic>
          <p:nvPicPr>
            <p:cNvPr id="194" name="Picture 7" descr="th?id=I"/>
            <p:cNvPicPr/>
            <p:nvPr/>
          </p:nvPicPr>
          <p:blipFill>
            <a:blip r:embed="rId5"/>
            <a:stretch/>
          </p:blipFill>
          <p:spPr>
            <a:xfrm>
              <a:off x="7238880" y="4876920"/>
              <a:ext cx="190512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16"/>
            <p:cNvSpPr/>
            <p:nvPr/>
          </p:nvSpPr>
          <p:spPr>
            <a:xfrm>
              <a:off x="7455240" y="628488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woodpec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1" descr="th?id=I"/>
          <p:cNvPicPr/>
          <p:nvPr/>
        </p:nvPicPr>
        <p:blipFill>
          <a:blip r:embed="rId1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Grassland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Its tall grass protects animals from predator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Dead grass turns into so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nim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populations change when there habit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ocations are in the Midwest one bi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rassland stretches Mexico to Canad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"/>
          <p:cNvGrpSpPr/>
          <p:nvPr/>
        </p:nvGrpSpPr>
        <p:grpSpPr>
          <a:xfrm>
            <a:off x="0" y="4952880"/>
            <a:ext cx="2438280" cy="1906920"/>
            <a:chOff x="0" y="4952880"/>
            <a:chExt cx="2438280" cy="1906920"/>
          </a:xfrm>
        </p:grpSpPr>
        <p:pic>
          <p:nvPicPr>
            <p:cNvPr id="48" name="Picture 5" descr="th?id=I"/>
            <p:cNvPicPr/>
            <p:nvPr/>
          </p:nvPicPr>
          <p:blipFill>
            <a:blip r:embed="rId2"/>
            <a:stretch/>
          </p:blipFill>
          <p:spPr>
            <a:xfrm>
              <a:off x="0" y="4952880"/>
              <a:ext cx="24382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12"/>
            <p:cNvSpPr/>
            <p:nvPr/>
          </p:nvSpPr>
          <p:spPr>
            <a:xfrm>
              <a:off x="1440" y="64915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Grey wo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2"/>
          <p:cNvGrpSpPr/>
          <p:nvPr/>
        </p:nvGrpSpPr>
        <p:grpSpPr>
          <a:xfrm>
            <a:off x="2438280" y="4952880"/>
            <a:ext cx="1981440" cy="1906560"/>
            <a:chOff x="2438280" y="4952880"/>
            <a:chExt cx="1981440" cy="1906560"/>
          </a:xfrm>
        </p:grpSpPr>
        <p:pic>
          <p:nvPicPr>
            <p:cNvPr id="51" name="Picture 11" descr="th?id=I"/>
            <p:cNvPicPr/>
            <p:nvPr/>
          </p:nvPicPr>
          <p:blipFill>
            <a:blip r:embed="rId3"/>
            <a:stretch/>
          </p:blipFill>
          <p:spPr>
            <a:xfrm>
              <a:off x="2438280" y="4952880"/>
              <a:ext cx="19814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4"/>
            <p:cNvSpPr/>
            <p:nvPr/>
          </p:nvSpPr>
          <p:spPr>
            <a:xfrm>
              <a:off x="2438280" y="62168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Purple cro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419720" y="4952880"/>
            <a:ext cx="2133360" cy="1906560"/>
            <a:chOff x="4419720" y="4952880"/>
            <a:chExt cx="2133360" cy="1906560"/>
          </a:xfrm>
        </p:grpSpPr>
        <p:pic>
          <p:nvPicPr>
            <p:cNvPr id="54" name="Picture 9" descr="th?id=I"/>
            <p:cNvPicPr/>
            <p:nvPr/>
          </p:nvPicPr>
          <p:blipFill>
            <a:blip r:embed="rId4"/>
            <a:stretch/>
          </p:blipFill>
          <p:spPr>
            <a:xfrm>
              <a:off x="4419720" y="4952880"/>
              <a:ext cx="213336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5"/>
            <p:cNvSpPr/>
            <p:nvPr/>
          </p:nvSpPr>
          <p:spPr>
            <a:xfrm>
              <a:off x="4421880" y="64911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Pine 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553080" y="4952880"/>
            <a:ext cx="2590920" cy="1906560"/>
            <a:chOff x="6553080" y="4952880"/>
            <a:chExt cx="2590920" cy="1906560"/>
          </a:xfrm>
        </p:grpSpPr>
        <p:pic>
          <p:nvPicPr>
            <p:cNvPr id="57" name="Picture 7" descr="th?id=I"/>
            <p:cNvPicPr/>
            <p:nvPr/>
          </p:nvPicPr>
          <p:blipFill>
            <a:blip r:embed="rId5"/>
            <a:stretch/>
          </p:blipFill>
          <p:spPr>
            <a:xfrm>
              <a:off x="6553080" y="4952880"/>
              <a:ext cx="259092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6"/>
            <p:cNvSpPr/>
            <p:nvPr/>
          </p:nvSpPr>
          <p:spPr>
            <a:xfrm>
              <a:off x="7565760" y="6491160"/>
              <a:ext cx="157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Whitetail de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grpSp>
          <p:nvGrpSpPr>
            <p:cNvPr id="60" name=""/>
            <p:cNvGrpSpPr/>
            <p:nvPr/>
          </p:nvGrpSpPr>
          <p:grpSpPr>
            <a:xfrm>
              <a:off x="0" y="0"/>
              <a:ext cx="9144000" cy="6859440"/>
              <a:chOff x="0" y="0"/>
              <a:chExt cx="9144000" cy="6859440"/>
            </a:xfrm>
          </p:grpSpPr>
          <p:pic>
            <p:nvPicPr>
              <p:cNvPr id="61" name="Picture 18" descr="th?id=I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510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11" descr="th?id=I"/>
              <p:cNvPicPr/>
              <p:nvPr/>
            </p:nvPicPr>
            <p:blipFill>
              <a:blip r:embed="rId2"/>
              <a:stretch/>
            </p:blipFill>
            <p:spPr>
              <a:xfrm>
                <a:off x="4419720" y="5105520"/>
                <a:ext cx="251460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Text Box 14"/>
              <p:cNvSpPr/>
              <p:nvPr/>
            </p:nvSpPr>
            <p:spPr>
              <a:xfrm>
                <a:off x="4422960" y="6491160"/>
                <a:ext cx="158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cc00"/>
                    </a:solidFill>
                    <a:latin typeface="Arial"/>
                  </a:rPr>
                  <a:t>Mallard duck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" name="Picture 7" descr="th?id=I"/>
            <p:cNvPicPr/>
            <p:nvPr/>
          </p:nvPicPr>
          <p:blipFill>
            <a:blip r:embed="rId3"/>
            <a:stretch/>
          </p:blipFill>
          <p:spPr>
            <a:xfrm>
              <a:off x="6934320" y="5029200"/>
              <a:ext cx="22096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15"/>
            <p:cNvSpPr/>
            <p:nvPr/>
          </p:nvSpPr>
          <p:spPr>
            <a:xfrm>
              <a:off x="7012800" y="649116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Black b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Taiga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Needles help trees survive the cold condi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Needles are leaves that ma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food for the t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 needles last o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rough the whole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One Cana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aiga biomes goes all the way thr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anad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5105520"/>
            <a:ext cx="4419720" cy="1753920"/>
            <a:chOff x="0" y="5105520"/>
            <a:chExt cx="4419720" cy="1753920"/>
          </a:xfrm>
        </p:grpSpPr>
        <p:pic>
          <p:nvPicPr>
            <p:cNvPr id="69" name="Picture 9" descr="th?id=I"/>
            <p:cNvPicPr/>
            <p:nvPr/>
          </p:nvPicPr>
          <p:blipFill>
            <a:blip r:embed="rId4"/>
            <a:stretch/>
          </p:blipFill>
          <p:spPr>
            <a:xfrm>
              <a:off x="2362320" y="5105520"/>
              <a:ext cx="2057400" cy="175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"/>
            <p:cNvGrpSpPr/>
            <p:nvPr/>
          </p:nvGrpSpPr>
          <p:grpSpPr>
            <a:xfrm>
              <a:off x="0" y="5105520"/>
              <a:ext cx="2362320" cy="1753920"/>
              <a:chOff x="0" y="5105520"/>
              <a:chExt cx="2362320" cy="1753920"/>
            </a:xfrm>
          </p:grpSpPr>
          <p:pic>
            <p:nvPicPr>
              <p:cNvPr id="71" name="Picture 5" descr="th?id=I"/>
              <p:cNvPicPr/>
              <p:nvPr/>
            </p:nvPicPr>
            <p:blipFill>
              <a:blip r:embed="rId5"/>
              <a:stretch/>
            </p:blipFill>
            <p:spPr>
              <a:xfrm>
                <a:off x="0" y="5105520"/>
                <a:ext cx="236232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Text Box 12"/>
              <p:cNvSpPr/>
              <p:nvPr/>
            </p:nvSpPr>
            <p:spPr>
              <a:xfrm>
                <a:off x="2520" y="649116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cc00"/>
                    </a:solidFill>
                    <a:latin typeface="Arial"/>
                  </a:rPr>
                  <a:t>moo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 Box 13"/>
            <p:cNvSpPr/>
            <p:nvPr/>
          </p:nvSpPr>
          <p:spPr>
            <a:xfrm>
              <a:off x="2364480" y="64911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Pine 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1" descr="th?id=I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Tundra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If a population grows larger than the carrying 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apa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an organisms will not 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o meet their nee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y will need 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ove to another area that has 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ost of them are found along the northe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oasts of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5105520"/>
            <a:ext cx="2362320" cy="1752480"/>
            <a:chOff x="0" y="5105520"/>
            <a:chExt cx="2362320" cy="1752480"/>
          </a:xfrm>
        </p:grpSpPr>
        <p:pic>
          <p:nvPicPr>
            <p:cNvPr id="78" name="Picture 5" descr="th?id=I"/>
            <p:cNvPicPr/>
            <p:nvPr/>
          </p:nvPicPr>
          <p:blipFill>
            <a:blip r:embed="rId2"/>
            <a:stretch/>
          </p:blipFill>
          <p:spPr>
            <a:xfrm>
              <a:off x="0" y="5105520"/>
              <a:ext cx="23623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16"/>
            <p:cNvSpPr/>
            <p:nvPr/>
          </p:nvSpPr>
          <p:spPr>
            <a:xfrm>
              <a:off x="1222200" y="52578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caribo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362320" y="5105520"/>
            <a:ext cx="2209680" cy="1852560"/>
            <a:chOff x="2362320" y="5105520"/>
            <a:chExt cx="2209680" cy="1852560"/>
          </a:xfrm>
        </p:grpSpPr>
        <p:pic>
          <p:nvPicPr>
            <p:cNvPr id="81" name="Picture 11" descr="th?id=I"/>
            <p:cNvPicPr/>
            <p:nvPr/>
          </p:nvPicPr>
          <p:blipFill>
            <a:blip r:embed="rId3"/>
            <a:stretch/>
          </p:blipFill>
          <p:spPr>
            <a:xfrm>
              <a:off x="2362320" y="5105520"/>
              <a:ext cx="2209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17"/>
            <p:cNvSpPr/>
            <p:nvPr/>
          </p:nvSpPr>
          <p:spPr>
            <a:xfrm>
              <a:off x="2425320" y="6589800"/>
              <a:ext cx="77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lich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572000" y="5105520"/>
            <a:ext cx="2438280" cy="1753920"/>
            <a:chOff x="4572000" y="5105520"/>
            <a:chExt cx="2438280" cy="1753920"/>
          </a:xfrm>
        </p:grpSpPr>
        <p:pic>
          <p:nvPicPr>
            <p:cNvPr id="84" name="Picture 15" descr="th?id=I"/>
            <p:cNvPicPr/>
            <p:nvPr/>
          </p:nvPicPr>
          <p:blipFill>
            <a:blip r:embed="rId4"/>
            <a:stretch/>
          </p:blipFill>
          <p:spPr>
            <a:xfrm>
              <a:off x="4572000" y="5105520"/>
              <a:ext cx="24382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18"/>
            <p:cNvSpPr/>
            <p:nvPr/>
          </p:nvSpPr>
          <p:spPr>
            <a:xfrm>
              <a:off x="4574880" y="6491160"/>
              <a:ext cx="134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olar be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994440" y="5105520"/>
            <a:ext cx="2149560" cy="1908720"/>
            <a:chOff x="6994440" y="5105520"/>
            <a:chExt cx="2149560" cy="1908720"/>
          </a:xfrm>
        </p:grpSpPr>
        <p:pic>
          <p:nvPicPr>
            <p:cNvPr id="87" name="Picture 13" descr="th?id=I"/>
            <p:cNvPicPr/>
            <p:nvPr/>
          </p:nvPicPr>
          <p:blipFill>
            <a:blip r:embed="rId5"/>
            <a:stretch/>
          </p:blipFill>
          <p:spPr>
            <a:xfrm>
              <a:off x="7010280" y="5105520"/>
              <a:ext cx="2133720" cy="181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9"/>
            <p:cNvSpPr/>
            <p:nvPr/>
          </p:nvSpPr>
          <p:spPr>
            <a:xfrm>
              <a:off x="6994440" y="6645960"/>
              <a:ext cx="114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Grey wo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2" descr="th?id=I"/>
          <p:cNvPicPr/>
          <p:nvPr/>
        </p:nvPicPr>
        <p:blipFill>
          <a:blip r:embed="rId1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Desert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se roots quickly take up w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o de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with high temperatures many animals r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during the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Some animals dig into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round to c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 largest deserts are found in northe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frica and southwest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5257800"/>
            <a:ext cx="2133720" cy="1600200"/>
            <a:chOff x="0" y="5257800"/>
            <a:chExt cx="2133720" cy="1600200"/>
          </a:xfrm>
        </p:grpSpPr>
        <p:pic>
          <p:nvPicPr>
            <p:cNvPr id="95" name="Picture 5" descr="th?id=I"/>
            <p:cNvPicPr/>
            <p:nvPr/>
          </p:nvPicPr>
          <p:blipFill>
            <a:blip r:embed="rId2"/>
            <a:stretch/>
          </p:blipFill>
          <p:spPr>
            <a:xfrm>
              <a:off x="0" y="5257800"/>
              <a:ext cx="21337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6"/>
            <p:cNvSpPr/>
            <p:nvPr/>
          </p:nvSpPr>
          <p:spPr>
            <a:xfrm>
              <a:off x="3600" y="6324480"/>
              <a:ext cx="164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Bighorn shee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133720" y="5257800"/>
            <a:ext cx="2523960" cy="1601640"/>
            <a:chOff x="2133720" y="5257800"/>
            <a:chExt cx="2523960" cy="1601640"/>
          </a:xfrm>
        </p:grpSpPr>
        <p:pic>
          <p:nvPicPr>
            <p:cNvPr id="98" name="Picture 11" descr="th?id=I"/>
            <p:cNvPicPr/>
            <p:nvPr/>
          </p:nvPicPr>
          <p:blipFill>
            <a:blip r:embed="rId3"/>
            <a:stretch/>
          </p:blipFill>
          <p:spPr>
            <a:xfrm>
              <a:off x="2133720" y="5257800"/>
              <a:ext cx="25239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7"/>
            <p:cNvSpPr/>
            <p:nvPr/>
          </p:nvSpPr>
          <p:spPr>
            <a:xfrm>
              <a:off x="2364120" y="64911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cact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648320" y="5257800"/>
            <a:ext cx="2286000" cy="1600200"/>
            <a:chOff x="4648320" y="5257800"/>
            <a:chExt cx="2286000" cy="1600200"/>
          </a:xfrm>
        </p:grpSpPr>
        <p:pic>
          <p:nvPicPr>
            <p:cNvPr id="101" name="Picture 9" descr="th?id=I"/>
            <p:cNvPicPr/>
            <p:nvPr/>
          </p:nvPicPr>
          <p:blipFill>
            <a:blip r:embed="rId4"/>
            <a:stretch/>
          </p:blipFill>
          <p:spPr>
            <a:xfrm>
              <a:off x="4648320" y="5257800"/>
              <a:ext cx="228600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9"/>
            <p:cNvSpPr/>
            <p:nvPr/>
          </p:nvSpPr>
          <p:spPr>
            <a:xfrm>
              <a:off x="4786920" y="63612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bobc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934320" y="5257800"/>
            <a:ext cx="2209680" cy="1600200"/>
            <a:chOff x="6934320" y="5257800"/>
            <a:chExt cx="2209680" cy="1600200"/>
          </a:xfrm>
        </p:grpSpPr>
        <p:pic>
          <p:nvPicPr>
            <p:cNvPr id="104" name="Picture 7" descr="th?id=I"/>
            <p:cNvPicPr/>
            <p:nvPr/>
          </p:nvPicPr>
          <p:blipFill>
            <a:blip r:embed="rId5"/>
            <a:stretch/>
          </p:blipFill>
          <p:spPr>
            <a:xfrm>
              <a:off x="6934320" y="5257800"/>
              <a:ext cx="22096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20"/>
            <p:cNvSpPr/>
            <p:nvPr/>
          </p:nvSpPr>
          <p:spPr>
            <a:xfrm>
              <a:off x="7149240" y="636120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coy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8" descr="th?id=I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River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Different kinds of rivers have different ki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of organis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Some animals live only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 rivers that flow slow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y are 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strong enough to live in the rivers that f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 Mississippi river is the largest river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North Americ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5105520"/>
            <a:ext cx="2286000" cy="1752480"/>
            <a:chOff x="0" y="5105520"/>
            <a:chExt cx="2286000" cy="1752480"/>
          </a:xfrm>
        </p:grpSpPr>
        <p:pic>
          <p:nvPicPr>
            <p:cNvPr id="110" name="Picture 5" descr="th?id=I"/>
            <p:cNvPicPr/>
            <p:nvPr/>
          </p:nvPicPr>
          <p:blipFill>
            <a:blip r:embed="rId2"/>
            <a:stretch/>
          </p:blipFill>
          <p:spPr>
            <a:xfrm>
              <a:off x="0" y="5105520"/>
              <a:ext cx="22860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/>
            <p:cNvSpPr/>
            <p:nvPr/>
          </p:nvSpPr>
          <p:spPr>
            <a:xfrm>
              <a:off x="216000" y="63612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walley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86000" y="5105520"/>
            <a:ext cx="2438280" cy="1752480"/>
            <a:chOff x="2286000" y="5105520"/>
            <a:chExt cx="2438280" cy="1752480"/>
          </a:xfrm>
        </p:grpSpPr>
        <p:pic>
          <p:nvPicPr>
            <p:cNvPr id="113" name="Picture 11" descr="th?id=I"/>
            <p:cNvPicPr/>
            <p:nvPr/>
          </p:nvPicPr>
          <p:blipFill>
            <a:blip r:embed="rId3"/>
            <a:stretch/>
          </p:blipFill>
          <p:spPr>
            <a:xfrm>
              <a:off x="2286000" y="5105520"/>
              <a:ext cx="24382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4"/>
            <p:cNvSpPr/>
            <p:nvPr/>
          </p:nvSpPr>
          <p:spPr>
            <a:xfrm>
              <a:off x="2501280" y="6284880"/>
              <a:ext cx="106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sturg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724280" y="5105520"/>
            <a:ext cx="2057400" cy="1752480"/>
            <a:chOff x="4724280" y="5105520"/>
            <a:chExt cx="2057400" cy="1752480"/>
          </a:xfrm>
        </p:grpSpPr>
        <p:pic>
          <p:nvPicPr>
            <p:cNvPr id="116" name="Picture 9" descr="th?id=I"/>
            <p:cNvPicPr/>
            <p:nvPr/>
          </p:nvPicPr>
          <p:blipFill>
            <a:blip r:embed="rId4"/>
            <a:stretch/>
          </p:blipFill>
          <p:spPr>
            <a:xfrm>
              <a:off x="4724280" y="5105520"/>
              <a:ext cx="20574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5"/>
            <p:cNvSpPr/>
            <p:nvPr/>
          </p:nvSpPr>
          <p:spPr>
            <a:xfrm>
              <a:off x="4787640" y="6361200"/>
              <a:ext cx="109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seawe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705720" y="5105520"/>
            <a:ext cx="2438280" cy="1752480"/>
            <a:chOff x="6705720" y="5105520"/>
            <a:chExt cx="2438280" cy="1752480"/>
          </a:xfrm>
        </p:grpSpPr>
        <p:pic>
          <p:nvPicPr>
            <p:cNvPr id="119" name="Picture 7" descr="th?id=I"/>
            <p:cNvPicPr/>
            <p:nvPr/>
          </p:nvPicPr>
          <p:blipFill>
            <a:blip r:embed="rId5"/>
            <a:stretch/>
          </p:blipFill>
          <p:spPr>
            <a:xfrm>
              <a:off x="6705720" y="5105520"/>
              <a:ext cx="24382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6"/>
            <p:cNvSpPr/>
            <p:nvPr/>
          </p:nvSpPr>
          <p:spPr>
            <a:xfrm>
              <a:off x="7123320" y="64371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b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0" descr="th?id=I"/>
          <p:cNvPicPr/>
          <p:nvPr/>
        </p:nvPicPr>
        <p:blipFill>
          <a:blip r:embed="rId1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Wetland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re are many kinds of wetla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 swam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is another kind of wetland with many tre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nd bush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Wetlands are very helpful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any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any kinds of wetlands are all over f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 worl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4952880"/>
            <a:ext cx="2438280" cy="1905120"/>
            <a:chOff x="0" y="4952880"/>
            <a:chExt cx="2438280" cy="1905120"/>
          </a:xfrm>
        </p:grpSpPr>
        <p:pic>
          <p:nvPicPr>
            <p:cNvPr id="125" name="Picture 7" descr="th?id=I"/>
            <p:cNvPicPr/>
            <p:nvPr/>
          </p:nvPicPr>
          <p:blipFill>
            <a:blip r:embed="rId2"/>
            <a:stretch/>
          </p:blipFill>
          <p:spPr>
            <a:xfrm>
              <a:off x="0" y="4952880"/>
              <a:ext cx="24382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5"/>
            <p:cNvSpPr/>
            <p:nvPr/>
          </p:nvSpPr>
          <p:spPr>
            <a:xfrm>
              <a:off x="216000" y="636120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allig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438280" y="4952880"/>
            <a:ext cx="2638440" cy="1905120"/>
            <a:chOff x="2438280" y="4952880"/>
            <a:chExt cx="2638440" cy="1905120"/>
          </a:xfrm>
        </p:grpSpPr>
        <p:pic>
          <p:nvPicPr>
            <p:cNvPr id="128" name="Picture 13" descr="th?id=I"/>
            <p:cNvPicPr/>
            <p:nvPr/>
          </p:nvPicPr>
          <p:blipFill>
            <a:blip r:embed="rId3"/>
            <a:stretch/>
          </p:blipFill>
          <p:spPr>
            <a:xfrm>
              <a:off x="2438280" y="4952880"/>
              <a:ext cx="26384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6"/>
            <p:cNvSpPr/>
            <p:nvPr/>
          </p:nvSpPr>
          <p:spPr>
            <a:xfrm>
              <a:off x="2730240" y="628488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Lily p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029200" y="4952880"/>
            <a:ext cx="1980720" cy="1905120"/>
            <a:chOff x="5029200" y="4952880"/>
            <a:chExt cx="1980720" cy="1905120"/>
          </a:xfrm>
        </p:grpSpPr>
        <p:pic>
          <p:nvPicPr>
            <p:cNvPr id="131" name="Picture 9" descr="th?id=I"/>
            <p:cNvPicPr/>
            <p:nvPr/>
          </p:nvPicPr>
          <p:blipFill>
            <a:blip r:embed="rId4"/>
            <a:stretch/>
          </p:blipFill>
          <p:spPr>
            <a:xfrm>
              <a:off x="5029200" y="4952880"/>
              <a:ext cx="198072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7"/>
            <p:cNvSpPr/>
            <p:nvPr/>
          </p:nvSpPr>
          <p:spPr>
            <a:xfrm>
              <a:off x="5427360" y="628488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leop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010280" y="4952880"/>
            <a:ext cx="2133720" cy="1905120"/>
            <a:chOff x="7010280" y="4952880"/>
            <a:chExt cx="2133720" cy="1905120"/>
          </a:xfrm>
        </p:grpSpPr>
        <p:pic>
          <p:nvPicPr>
            <p:cNvPr id="134" name="Picture 5" descr="th?id=I"/>
            <p:cNvPicPr/>
            <p:nvPr/>
          </p:nvPicPr>
          <p:blipFill>
            <a:blip r:embed="rId5"/>
            <a:stretch/>
          </p:blipFill>
          <p:spPr>
            <a:xfrm>
              <a:off x="7010280" y="4952880"/>
              <a:ext cx="213372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8"/>
            <p:cNvSpPr/>
            <p:nvPr/>
          </p:nvSpPr>
          <p:spPr>
            <a:xfrm>
              <a:off x="7072920" y="64371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du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7" descr="th?id=I"/>
          <p:cNvPicPr/>
          <p:nvPr/>
        </p:nvPicPr>
        <p:blipFill>
          <a:blip r:embed="rId1"/>
          <a:stretch/>
        </p:blipFill>
        <p:spPr>
          <a:xfrm>
            <a:off x="0" y="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oral Reef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orals are animals that have a special related with alga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Some algae carry 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photosynthes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y will grow only in shallow warm wa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oral reefs are very important eco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0" y="4648320"/>
            <a:ext cx="2286000" cy="2209680"/>
            <a:chOff x="0" y="4648320"/>
            <a:chExt cx="2286000" cy="2209680"/>
          </a:xfrm>
        </p:grpSpPr>
        <p:pic>
          <p:nvPicPr>
            <p:cNvPr id="140" name="Picture 5" descr="th?id=I"/>
            <p:cNvPicPr/>
            <p:nvPr/>
          </p:nvPicPr>
          <p:blipFill>
            <a:blip r:embed="rId2"/>
            <a:stretch/>
          </p:blipFill>
          <p:spPr>
            <a:xfrm>
              <a:off x="0" y="4648320"/>
              <a:ext cx="22860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2"/>
            <p:cNvSpPr/>
            <p:nvPr/>
          </p:nvSpPr>
          <p:spPr>
            <a:xfrm>
              <a:off x="139320" y="6284880"/>
              <a:ext cx="180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Coral reef sh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0" y="4648320"/>
            <a:ext cx="2448000" cy="2209680"/>
            <a:chOff x="2286000" y="4648320"/>
            <a:chExt cx="2448000" cy="2209680"/>
          </a:xfrm>
        </p:grpSpPr>
        <p:pic>
          <p:nvPicPr>
            <p:cNvPr id="143" name="Picture 11" descr="th?id=I"/>
            <p:cNvPicPr/>
            <p:nvPr/>
          </p:nvPicPr>
          <p:blipFill>
            <a:blip r:embed="rId3"/>
            <a:stretch/>
          </p:blipFill>
          <p:spPr>
            <a:xfrm>
              <a:off x="2286000" y="4648320"/>
              <a:ext cx="24480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3"/>
            <p:cNvSpPr/>
            <p:nvPr/>
          </p:nvSpPr>
          <p:spPr>
            <a:xfrm>
              <a:off x="2577240" y="620856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Elk ho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724280" y="4648320"/>
            <a:ext cx="2210040" cy="2209680"/>
            <a:chOff x="4724280" y="4648320"/>
            <a:chExt cx="2210040" cy="2209680"/>
          </a:xfrm>
        </p:grpSpPr>
        <p:pic>
          <p:nvPicPr>
            <p:cNvPr id="146" name="Picture 9" descr="th?id=I"/>
            <p:cNvPicPr/>
            <p:nvPr/>
          </p:nvPicPr>
          <p:blipFill>
            <a:blip r:embed="rId4"/>
            <a:stretch/>
          </p:blipFill>
          <p:spPr>
            <a:xfrm>
              <a:off x="4724280" y="4648320"/>
              <a:ext cx="221004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4"/>
            <p:cNvSpPr/>
            <p:nvPr/>
          </p:nvSpPr>
          <p:spPr>
            <a:xfrm>
              <a:off x="5015880" y="6208560"/>
              <a:ext cx="9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stingr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934320" y="4648320"/>
            <a:ext cx="2209680" cy="2209680"/>
            <a:chOff x="6934320" y="4648320"/>
            <a:chExt cx="2209680" cy="2209680"/>
          </a:xfrm>
        </p:grpSpPr>
        <p:pic>
          <p:nvPicPr>
            <p:cNvPr id="149" name="Picture 7" descr="th?id=I"/>
            <p:cNvPicPr/>
            <p:nvPr/>
          </p:nvPicPr>
          <p:blipFill>
            <a:blip r:embed="rId5"/>
            <a:stretch/>
          </p:blipFill>
          <p:spPr>
            <a:xfrm>
              <a:off x="6934320" y="4648320"/>
              <a:ext cx="22096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5"/>
            <p:cNvSpPr/>
            <p:nvPr/>
          </p:nvSpPr>
          <p:spPr>
            <a:xfrm>
              <a:off x="7149960" y="6284880"/>
              <a:ext cx="123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Clown 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1" descr="th?id=I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Deep Sea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Sunlight can not reach these cold depth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So plants can not gr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any animals 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dead plants and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 first deep sea vent was discovered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1977 near the Galapagos Is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0" y="4876920"/>
            <a:ext cx="2057400" cy="1981080"/>
            <a:chOff x="0" y="4876920"/>
            <a:chExt cx="2057400" cy="1981080"/>
          </a:xfrm>
        </p:grpSpPr>
        <p:pic>
          <p:nvPicPr>
            <p:cNvPr id="155" name="Picture 5" descr="th?id=I"/>
            <p:cNvPicPr/>
            <p:nvPr/>
          </p:nvPicPr>
          <p:blipFill>
            <a:blip r:embed="rId2"/>
            <a:stretch/>
          </p:blipFill>
          <p:spPr>
            <a:xfrm>
              <a:off x="0" y="4876920"/>
              <a:ext cx="20574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12"/>
            <p:cNvSpPr/>
            <p:nvPr/>
          </p:nvSpPr>
          <p:spPr>
            <a:xfrm>
              <a:off x="138960" y="628488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Sword 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057400" y="4876920"/>
            <a:ext cx="2209680" cy="1981080"/>
            <a:chOff x="2057400" y="4876920"/>
            <a:chExt cx="2209680" cy="1981080"/>
          </a:xfrm>
        </p:grpSpPr>
        <p:pic>
          <p:nvPicPr>
            <p:cNvPr id="158" name="Picture 9" descr="th?id=I"/>
            <p:cNvPicPr/>
            <p:nvPr/>
          </p:nvPicPr>
          <p:blipFill>
            <a:blip r:embed="rId3"/>
            <a:stretch/>
          </p:blipFill>
          <p:spPr>
            <a:xfrm>
              <a:off x="2057400" y="4876920"/>
              <a:ext cx="2209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13"/>
            <p:cNvSpPr/>
            <p:nvPr/>
          </p:nvSpPr>
          <p:spPr>
            <a:xfrm>
              <a:off x="2272680" y="636120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Angle 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267080" y="4876920"/>
            <a:ext cx="2381400" cy="1981080"/>
            <a:chOff x="4267080" y="4876920"/>
            <a:chExt cx="2381400" cy="1981080"/>
          </a:xfrm>
        </p:grpSpPr>
        <p:pic>
          <p:nvPicPr>
            <p:cNvPr id="161" name="Picture 11" descr="th?id=I"/>
            <p:cNvPicPr/>
            <p:nvPr/>
          </p:nvPicPr>
          <p:blipFill>
            <a:blip r:embed="rId4"/>
            <a:stretch/>
          </p:blipFill>
          <p:spPr>
            <a:xfrm>
              <a:off x="4267080" y="4876920"/>
              <a:ext cx="23814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8"/>
            <p:cNvSpPr/>
            <p:nvPr/>
          </p:nvSpPr>
          <p:spPr>
            <a:xfrm>
              <a:off x="4482360" y="636120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Waho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629400" y="4876920"/>
            <a:ext cx="2514600" cy="1982520"/>
            <a:chOff x="6629400" y="4876920"/>
            <a:chExt cx="2514600" cy="1982520"/>
          </a:xfrm>
        </p:grpSpPr>
        <p:pic>
          <p:nvPicPr>
            <p:cNvPr id="164" name="Picture 7" descr="th?id=I"/>
            <p:cNvPicPr/>
            <p:nvPr/>
          </p:nvPicPr>
          <p:blipFill>
            <a:blip r:embed="rId5"/>
            <a:stretch/>
          </p:blipFill>
          <p:spPr>
            <a:xfrm>
              <a:off x="6629400" y="4876920"/>
              <a:ext cx="25146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9"/>
            <p:cNvSpPr/>
            <p:nvPr/>
          </p:nvSpPr>
          <p:spPr>
            <a:xfrm>
              <a:off x="6921000" y="649116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Nurse sh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26:02Z</dcterms:created>
  <dc:creator>JV3200</dc:creator>
  <dc:description/>
  <dc:language>en-US</dc:language>
  <cp:lastModifiedBy>JV3200</cp:lastModifiedBy>
  <dcterms:modified xsi:type="dcterms:W3CDTF">2012-11-12T20:00:37Z</dcterms:modified>
  <cp:revision>13</cp:revision>
  <dc:subject/>
  <dc:title>Water and land biomes</dc:title>
</cp:coreProperties>
</file>